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CDC-21BC-4396-BD39-CBB9FF5F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CF1-A509-4C23-B3DA-8958140D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336-150D-40F2-B44C-D899837A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6E6-3741-46F4-B497-52F09B41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54C7-1A44-4334-BC99-FDFA79F1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93F2-AFCA-4E88-92D2-870724ED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729A-838E-4718-820E-3E7D6538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5E65-B2B4-4901-A68F-78E61442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D442-06C7-48EA-A4C4-F00620BC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3D08-DAD7-4E51-BEDC-D962F2ED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2107-95B5-4C87-8066-74A48285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4E6-9B1E-4D8B-A2ED-34E33543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F0F4-8DCB-4648-B520-CDBE9502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43FE-784F-49F2-9FAF-E31E4EE8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0A47-BE7A-4A39-BA35-8B58E4C3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CBCC-E20B-4847-9D58-4D09786B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8794-9F90-4BAA-B49A-5331D8C3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64B-D2B3-44A3-8FC3-88F634F9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398-C34B-4069-B8B7-92AC8062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30D-2E08-4617-8D25-C158CDD0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3A3-38D2-4CA7-AC02-AC3033AA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EED-6558-45FB-B5AE-9C96EFB1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5F6-03E4-4780-82A1-7F7D7FE7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B89-D339-405A-B3AA-FE452866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99ff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ff33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99ff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B339-BB06-4DA5-91DA-6BDBBB931C3F}" type="slidenum"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99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99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99ff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57A1-E86B-402E-81D1-F6C24E6F3381}" type="slidenum"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Salt vs Sugar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Shelby Schroeder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Resul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People could tell the difference. The salt was hard and big and the sugar was slimy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alt and sugar crystals look very different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Girls made better observations than the boys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Girls could tell the difference better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ajor Observation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People looked at each crystal very quickly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When given the chance, people didn’t look through the microscope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The sugar crystal took longer and didn’t grow as big.  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ossible Causes of Erro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How sunny it was each day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I didn’t have enough time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The sugar crystal didn’t have time to dry out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urther Research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I might test to see if time is a factor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ime Spent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All science fair workdays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cknowledgements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Mrs. Riffle 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Max 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Edward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Kyler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Hannah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Jessic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Kac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an people tell the difference between salt and sugar crystals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7621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 Black"/>
              </a:rPr>
              <a:t>Problem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alt and sugar look alike, but what if it is crystallized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Background Info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alt comes from underground mines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ugar comes from plants called cane sugar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Too much of both is very bad for a persons body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Both can be crystallized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Hypothe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I predict people will be able to tell the difference between sugar and salt crystals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8120" y="380880"/>
            <a:ext cx="30477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ateria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 cup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 pieces of string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 paperclip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Sugar 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Salt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ater 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A sunny plac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Microscope 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Peopl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52680" y="304560"/>
            <a:ext cx="2286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eopl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Edward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Max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layton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Kyler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Kaci 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Jessic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Hannah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742840" y="456840"/>
            <a:ext cx="3429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roced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I will place the sugar and salt crystal making tools in a sunny place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ugar and salt crystals will grow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People will describe what each is like to me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They will see if they can tell the difference between the two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Variabl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Independent: Result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Dependent: Boys &amp; Gir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ontrolled: Same Cryst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7:10:06Z</dcterms:created>
  <dc:creator>USD376</dc:creator>
  <dc:description/>
  <dc:language>en-US</dc:language>
  <cp:lastModifiedBy>USD376</cp:lastModifiedBy>
  <dcterms:modified xsi:type="dcterms:W3CDTF">2012-03-19T14:57:05Z</dcterms:modified>
  <cp:revision>15</cp:revision>
  <dc:subject/>
  <dc:title>Can People Actually Tell if its More Expensive?</dc:title>
</cp:coreProperties>
</file>